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392-0175-4655-9C6D-6403E22A6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1278-2480-448F-B51C-213FCB5B6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15F-4584-4B9A-B00E-AA6B9061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7986-B10D-4452-B460-E2838C9AA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D6D6-5B1C-4159-B372-F56F29B5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B105-6DD9-4583-858F-9CE12AB8E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9F1-C670-4F13-85AD-E5954865E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5EB-9F4A-4F3D-AED6-A51D5DFC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742-C998-4926-A787-77DAC452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2BB-2969-42E2-ACA1-2E862BCA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65E-B0DB-40DB-9FE1-8F9C590C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B6BD-81B1-450D-85BB-AE8C2C68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BA7F-123B-4C5B-A751-459D9F16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FF76-E476-48D7-AACE-ACACAD3E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9DB2-B4A4-4876-8C8D-C789C4F1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2325-1C75-4F70-9F9A-71881316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0797-80E2-4382-8662-BFE4E10F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150-9C9C-4C36-8454-0E41DEED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4AD-BE08-47C9-9F53-CD787FE7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CEEA-8159-45CC-9742-19418561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570B-D349-44F8-96A0-2310350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CB87-E4DD-4253-A185-D8640A7B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3549-F2CF-4492-AFB5-3857D6E5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6CDE-0B82-4BA7-8986-ADF5D1F2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B5D1-074D-4C49-A7E6-0EDBF324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16FF-5A34-437C-B4CF-C6631E06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FA18-0DA7-4735-9EF4-2DFFE0BE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DF49-7387-4DFE-83EA-F90CAEDA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AB53-F9D7-4CE5-AE15-05906D03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9DB-23F2-411C-95E6-3CFA5615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FCFE-1774-4FFF-B6CA-43B7157E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2D52-1B50-481E-8F39-485647C0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1FC6-E1F2-44DA-890F-72E17C2F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E28B-80DE-4C44-BDDB-700A076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6EE5C-3FCA-4670-B503-0F66F6C0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1E9F1-C810-456D-9250-174FDC11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D511-A934-4F59-8FF3-EA0D2DA4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9B40-EBA3-4009-AA29-5283B7F0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D3CA2-3E39-439C-91C5-14AC0900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A240-068B-4F97-8EA0-7BC189DF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70B-311C-4BBC-8CCD-66CE6B5C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FF56-9A3F-4A87-8ECB-491735BF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18AF-A1D4-47F9-A3DC-1C39050D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82C8-666A-4EE8-828E-0D3202DC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9BA7-853B-49C3-9392-5C9720C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F337-C43E-4C8C-B27D-7E3BFE82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716A-31DA-4F26-B394-69E3E95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FEE53-21A4-4F27-B967-E4C3E69A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7A5F2-986B-4BFA-B08F-EC175853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A36D-9D82-42A5-A5C0-0AF16553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2E3BF-C26A-4E5D-AFB0-2EA5ABA7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DC6-2266-4D00-AB29-CBE543F5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BBB2-9E27-44AF-B6EF-61C8C5CC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BD797-2D3C-4351-A744-BA600473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8476-0494-4C49-A8FB-BCDE1AB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FF45-0875-40C6-A0B0-EBEA05B1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165D0-EAA5-4890-B7D6-E8348E21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B5F3F-C411-4795-B64E-F785E9B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B7CAD-BD7E-46B6-90B1-D844C72F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3CC0-5EDD-4C6B-9811-3CDB2FF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F55CD-B86F-421C-AA07-00B21492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6D632-1F2D-4C51-9F00-903B522D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6C4-C26E-45F0-BE42-6C5AFEDE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A6080-D515-4AC0-90EF-57FA162C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0D787-F8A9-4BC3-994A-A37060CD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29916-B04A-44F8-8E91-D831E014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04F43-6ACE-4C08-8B19-7C0A981F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0E6EC-C53C-4DE9-B214-43F7F302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ADC8-5BD9-4462-A65F-42F5531F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5C2DA-7C91-4675-9A84-C7829AD3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5703A-77BF-4307-9E85-3755D5A4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E6EF-8A61-494A-BC1C-28A00722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5E2B-3EC0-4EEE-9D49-E07C31A3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B90-5D9B-410E-B841-087FD2F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4D979-38BB-4065-881F-E274650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B1C1D-1329-4F86-9CC4-6170F4B0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FFC64-1D96-4307-8452-8B5701C6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5127-C8D3-4C25-A80F-3FD5EA32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866F5-E5F2-4CC4-B0F7-206260DD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EE45D-EF43-4462-A2AA-9E8BF0DC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1C8C5-64BA-43E7-9A1D-33E10D6A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7153-9AAC-4678-AEA8-4665535E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5135E-8528-4126-A9D8-FA336B8A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B039D-3B38-4190-8963-8227B9C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320-E247-43B1-8F5A-86D19AE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C9F43-9EEE-4533-8157-0B99502F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7E2D-8E81-443D-A2AA-EE23B7B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782C-ECCD-43F8-9433-69408B88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3137D-81E1-4124-B4B0-3AEAB91B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C7EDD-0931-4288-A8AF-F43B6244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782A9-A77A-41B3-BD23-A0C1CFE7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75E77-A097-4BDD-A32D-38F1810F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5E3FB-8671-42C8-912E-C0C46B02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99929-BB4B-4014-87E6-F308137B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9B9A-6204-40FC-8AC7-E6B38775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92C-38CC-4311-94F2-8EE4F6F4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6EE94-DBAB-4DD9-9795-20C7D40C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D5010-335F-49B4-9DFD-D00A0733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E734A-EEBC-4672-8F3E-44D510B8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E0CC1-373D-41D0-9498-97D77972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9BB7D-A808-485D-A98B-AFF1DF27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D61E-E4EE-4DCC-97BA-A06C8C71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33E1B-B0D0-449B-9181-EFD84290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7DF5-6D45-4DD8-8B5F-F5E0AF9F1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096A-3148-4468-8AF5-A10008030C2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EF89-399A-461A-B5F8-D64CFF91733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7F38-3D0B-4A89-81A7-F5F59F30F3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A0D8-D73E-4135-AB19-2BE807054E3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0B10-833E-4369-8DF0-F106F9C2860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433-FC58-4D7E-A4EC-6F9427661E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8C4-AD75-4AE0-A263-B5BA1A041C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137160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6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8960" y="35053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5 Word Par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-, Dia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oram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gona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on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gle or corner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meter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meter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asurement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log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l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ss; throug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5" descr="diameter.jpg"/>
          <p:cNvPicPr/>
          <p:nvPr/>
        </p:nvPicPr>
        <p:blipFill>
          <a:blip r:embed="rId2"/>
          <a:stretch/>
        </p:blipFill>
        <p:spPr>
          <a:xfrm>
            <a:off x="5105520" y="2895480"/>
            <a:ext cx="213336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diorama.jpg"/>
          <p:cNvPicPr/>
          <p:nvPr/>
        </p:nvPicPr>
        <p:blipFill>
          <a:blip r:embed="rId3"/>
          <a:stretch/>
        </p:blipFill>
        <p:spPr>
          <a:xfrm>
            <a:off x="2971800" y="441972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vendiagram.jpg"/>
          <p:cNvPicPr/>
          <p:nvPr/>
        </p:nvPicPr>
        <p:blipFill>
          <a:blip r:embed="rId4"/>
          <a:stretch/>
        </p:blipFill>
        <p:spPr>
          <a:xfrm>
            <a:off x="6858000" y="228600"/>
            <a:ext cx="1809720" cy="1219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diagonall.jpg"/>
          <p:cNvPicPr/>
          <p:nvPr/>
        </p:nvPicPr>
        <p:blipFill>
          <a:blip r:embed="rId5"/>
          <a:stretch/>
        </p:blipFill>
        <p:spPr>
          <a:xfrm>
            <a:off x="7467480" y="4648320"/>
            <a:ext cx="140040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nedictio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en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prefix meaning “well; good”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adi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cta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ledictio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al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bad; evil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erdict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e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root meaning true; truth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ct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i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 say; to speak; to tell; word or wo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" name="Picture 4" descr="dicator.jpg"/>
          <p:cNvPicPr/>
          <p:nvPr/>
        </p:nvPicPr>
        <p:blipFill>
          <a:blip r:embed="rId2"/>
          <a:stretch/>
        </p:blipFill>
        <p:spPr>
          <a:xfrm>
            <a:off x="4952880" y="5410080"/>
            <a:ext cx="1600200" cy="1266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dicatorr.jpg"/>
          <p:cNvPicPr/>
          <p:nvPr/>
        </p:nvPicPr>
        <p:blipFill>
          <a:blip r:embed="rId3"/>
          <a:stretch/>
        </p:blipFill>
        <p:spPr>
          <a:xfrm>
            <a:off x="2666880" y="55627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verdict.jpg"/>
          <p:cNvPicPr/>
          <p:nvPr/>
        </p:nvPicPr>
        <p:blipFill>
          <a:blip r:embed="rId4"/>
          <a:stretch/>
        </p:blipFill>
        <p:spPr>
          <a:xfrm>
            <a:off x="7010280" y="304920"/>
            <a:ext cx="1552680" cy="1371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ontradiction.jpg"/>
          <p:cNvPicPr/>
          <p:nvPr/>
        </p:nvPicPr>
        <p:blipFill>
          <a:blip r:embed="rId5"/>
          <a:stretch/>
        </p:blipFill>
        <p:spPr>
          <a:xfrm>
            <a:off x="6553080" y="2743200"/>
            <a:ext cx="198144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uce, Du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odu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odu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du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que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 lea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4" descr="aqueduct.jpg"/>
          <p:cNvPicPr/>
          <p:nvPr/>
        </p:nvPicPr>
        <p:blipFill>
          <a:blip r:embed="rId2"/>
          <a:stretch/>
        </p:blipFill>
        <p:spPr>
          <a:xfrm>
            <a:off x="3886200" y="27432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deduct.jpg"/>
          <p:cNvPicPr/>
          <p:nvPr/>
        </p:nvPicPr>
        <p:blipFill>
          <a:blip r:embed="rId3"/>
          <a:stretch/>
        </p:blipFill>
        <p:spPr>
          <a:xfrm>
            <a:off x="3276720" y="4800600"/>
            <a:ext cx="1095120" cy="142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introduce.jpg"/>
          <p:cNvPicPr/>
          <p:nvPr/>
        </p:nvPicPr>
        <p:blipFill>
          <a:blip r:embed="rId4"/>
          <a:stretch/>
        </p:blipFill>
        <p:spPr>
          <a:xfrm>
            <a:off x="6705720" y="152280"/>
            <a:ext cx="1971720" cy="1447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conduct.jpg"/>
          <p:cNvPicPr/>
          <p:nvPr/>
        </p:nvPicPr>
        <p:blipFill>
          <a:blip r:embed="rId5"/>
          <a:stretch/>
        </p:blipFill>
        <p:spPr>
          <a:xfrm>
            <a:off x="7162920" y="4038480"/>
            <a:ext cx="160020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-, Ex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rup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j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vid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va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port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carry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pir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i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hu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may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ut or out of; from; form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4" descr="erupt.jpg"/>
          <p:cNvPicPr/>
          <p:nvPr/>
        </p:nvPicPr>
        <p:blipFill>
          <a:blip r:embed="rId2"/>
          <a:stretch/>
        </p:blipFill>
        <p:spPr>
          <a:xfrm>
            <a:off x="6248520" y="464832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eject.jpg"/>
          <p:cNvPicPr/>
          <p:nvPr/>
        </p:nvPicPr>
        <p:blipFill>
          <a:blip r:embed="rId3"/>
          <a:stretch/>
        </p:blipFill>
        <p:spPr>
          <a:xfrm>
            <a:off x="3809880" y="426708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exit.jpg"/>
          <p:cNvPicPr/>
          <p:nvPr/>
        </p:nvPicPr>
        <p:blipFill>
          <a:blip r:embed="rId4"/>
          <a:stretch/>
        </p:blipFill>
        <p:spPr>
          <a:xfrm>
            <a:off x="7315200" y="2743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expire.jpg"/>
          <p:cNvPicPr/>
          <p:nvPr/>
        </p:nvPicPr>
        <p:blipFill>
          <a:blip r:embed="rId5"/>
          <a:stretch/>
        </p:blipFill>
        <p:spPr>
          <a:xfrm>
            <a:off x="6858000" y="152280"/>
            <a:ext cx="213372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et, -etta, -ette, -etto, -el, -ella, -let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et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u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ot meaning two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ron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eret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igaret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bretto/libretta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ib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book or books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ilet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l/ nove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mbrella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umb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shadow or shad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okl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lhouette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et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uffix meaning small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al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group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ving or showing the quality o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4" descr="coronet.jpg"/>
          <p:cNvPicPr/>
          <p:nvPr/>
        </p:nvPicPr>
        <p:blipFill>
          <a:blip r:embed="rId2"/>
          <a:stretch/>
        </p:blipFill>
        <p:spPr>
          <a:xfrm>
            <a:off x="5029200" y="33526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duet.jpg"/>
          <p:cNvPicPr/>
          <p:nvPr/>
        </p:nvPicPr>
        <p:blipFill>
          <a:blip r:embed="rId3"/>
          <a:stretch/>
        </p:blipFill>
        <p:spPr>
          <a:xfrm>
            <a:off x="6172200" y="5105520"/>
            <a:ext cx="1181160" cy="1447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libretto.jpg"/>
          <p:cNvPicPr/>
          <p:nvPr/>
        </p:nvPicPr>
        <p:blipFill>
          <a:blip r:embed="rId4"/>
          <a:stretch/>
        </p:blipFill>
        <p:spPr>
          <a:xfrm>
            <a:off x="533520" y="152280"/>
            <a:ext cx="885600" cy="1314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operetta.jpg"/>
          <p:cNvPicPr/>
          <p:nvPr/>
        </p:nvPicPr>
        <p:blipFill>
          <a:blip r:embed="rId5"/>
          <a:stretch/>
        </p:blipFill>
        <p:spPr>
          <a:xfrm>
            <a:off x="7924680" y="441972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silhoutee.jpg"/>
          <p:cNvPicPr/>
          <p:nvPr/>
        </p:nvPicPr>
        <p:blipFill>
          <a:blip r:embed="rId6"/>
          <a:stretch/>
        </p:blipFill>
        <p:spPr>
          <a:xfrm>
            <a:off x="4572000" y="5181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umbrella.jpg"/>
          <p:cNvPicPr/>
          <p:nvPr/>
        </p:nvPicPr>
        <p:blipFill>
          <a:blip r:embed="rId7"/>
          <a:stretch/>
        </p:blipFill>
        <p:spPr>
          <a:xfrm>
            <a:off x="7162920" y="1219320"/>
            <a:ext cx="1409760" cy="121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stilettoo.jpg"/>
          <p:cNvPicPr/>
          <p:nvPr/>
        </p:nvPicPr>
        <p:blipFill>
          <a:blip r:embed="rId8"/>
          <a:stretch/>
        </p:blipFill>
        <p:spPr>
          <a:xfrm>
            <a:off x="7238880" y="2971800"/>
            <a:ext cx="1533600" cy="13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2-10T17:39:07Z</dcterms:modified>
  <cp:revision>28</cp:revision>
  <dc:subject/>
  <dc:title>Roots List #1</dc:title>
</cp:coreProperties>
</file>